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903-6716-4333-8EF8-2EB10A5E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1D9-9EDA-4487-B1BF-E5386FE3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517-4560-4D53-89CC-51C34925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90C-8084-4B48-94FA-05CA21C2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3D26-4AD1-4509-900D-C5FD0E11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1E03-581A-44BE-AAFD-59151C68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D5D1-7741-4832-8479-A5127A69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BE2B-C70B-4C04-A7DB-5C9BB7E5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B8D6-2E49-49F5-8E1F-A1751C77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EB19-3812-4003-8029-64A03242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730B-8E51-4CF7-A82F-B93E168D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37F-26B5-48F4-8511-D8785975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448C-2493-436B-A441-4FF503B3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C650-A7D5-4B22-B901-AB59E86A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2AB1-F207-4437-BB93-6B0D67AB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080F-E6DB-45C4-AA31-98C86CBE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8661-6080-4418-9EB7-AE6DBF2A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54859-27F3-4D6E-A749-CA23AAB6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51926-BF90-49D7-9AFA-2B5DA55B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800DB-2B38-4988-ABE9-AD7FEC7E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3093-F7AB-4412-9F42-A90CAD03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F6E69-E41B-41B0-90F9-D94A3050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18CF-D1CC-4408-917E-7ECF03E2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613A9-0B5B-469E-9B27-01654E01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8C8E5-89A6-477C-9BC4-2A045A5A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8EDF5-24A4-4D7C-9789-5DA0A959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20E5B-F420-4EC8-9C57-90F09685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0421-ED7C-489A-9FB3-5D0461CF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F0B4-6102-4AFA-8FDE-538BFDB2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93F2-1E62-4A74-BAB6-3283DBE4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385AF-27AC-4443-8091-914FA57B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91F42-C3AA-412B-8930-3A416A8A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FABAA-A2E2-4579-B3C2-16DDD595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0155-6E64-431F-987C-88A5A8C9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885F0-9404-488E-9577-3BDB0378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B48E8-7196-4D70-993E-63E31898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25999-D03D-4E7E-B00D-184DCEEB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D8414-CB66-4C85-987D-01128239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D864D-4D4C-4048-9CB3-2623E371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878E6-1921-4644-BC6B-BF7579FC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89ABF-EFA8-4335-925A-4BC896C2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63343-3A24-4AF0-A88B-E409E375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1A9B9-F5B1-4BBF-9846-83164939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B800B-AC47-4889-B002-0CBF8E92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704-480C-45FD-88E1-BBD012AA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0DBC4-EC41-4C12-82D4-5BA5AA74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50398-1D1A-459E-BD30-4D143C91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7C039-7BF1-4CDF-83D6-9F9BB51E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A7934-3441-4C5C-A9E9-C582D98D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9E463-540A-4BD4-A1D6-DB2D496E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DD5EF-5BD2-4FA5-85B4-DBD7D476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46E54-85C1-4E5C-9E43-678E6092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ACF1D-983A-4492-AECA-BC44B368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A20D1-3651-46D8-A87E-7893617F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8A82B-5CD1-4CBA-8CCA-7E61C6DB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BB3-DDEB-4266-BC55-0286D132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7EEFC-B0F1-4D75-9DEC-7A9538F4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29410-AF84-4F63-97ED-F6326052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98615-7D91-412D-BB58-EBC82553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E6C2C-3D99-4409-9694-39A8D4FE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B9682-0B8B-4406-AA69-B7AB8554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272A7-7F9B-45EC-B8EF-B319C371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9A5B6-523A-4CA8-AD48-EB445C40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2A64A-A1AE-42EF-B090-49FE8E24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BA1A6-3D61-4807-9E91-0658C565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43E61-CE0A-4290-9635-B6E9F0BF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FBC-831F-4DC3-AC6C-F49DE3E5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5AC59-08D3-47BA-815D-A8D15358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B6B88-78BA-415B-AE44-9962C33F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2B258-70FF-43FD-BDA7-E15A3FB3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E74-11EE-4C56-8A61-A6ACF69A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35E-41B6-4B19-8C28-DBF04AE5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5A42-1FD9-41CD-87D8-EBFF89B7F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F61F-92D0-4F9C-AC00-3A3CEC7A3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EFCB-0591-46EB-9D55-0261E4193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CC6E-4114-4204-B769-77A45EAC0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5B54-DF0A-4BE4-9CDA-55A680DD7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8909-65DA-4E7E-AE5C-FE9E8436B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anraalte.wikispaces.com/home" TargetMode="External"/><Relationship Id="rId3" Type="http://schemas.openxmlformats.org/officeDocument/2006/relationships/hyperlink" Target="http://vanraalte.wikispaces.com/home" TargetMode="External"/><Relationship Id="rId4" Type="http://schemas.openxmlformats.org/officeDocument/2006/relationships/hyperlink" Target="http://vanraalte.wikispaces.com/home" TargetMode="External"/><Relationship Id="rId5" Type="http://schemas.openxmlformats.org/officeDocument/2006/relationships/hyperlink" Target="http://westwood.wikispaces.com/" TargetMode="External"/><Relationship Id="rId6" Type="http://schemas.openxmlformats.org/officeDocument/2006/relationships/hyperlink" Target="http://westwood.wikispaces.com/" TargetMode="External"/><Relationship Id="rId7" Type="http://schemas.openxmlformats.org/officeDocument/2006/relationships/hyperlink" Target="http://burell9english.wikispaces.com/" TargetMode="External"/><Relationship Id="rId8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4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Monday, April 7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s vs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 archive of previous posts in wikis, but change history is recorde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ikis are quicker to change, adaptabl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ore visible student particip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Available Support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Wiki Resources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Wikispaces.com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(ad/links free for education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Sample Class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2"/>
              </a:rPr>
              <a:t>Mr. van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3"/>
              </a:rPr>
              <a:t>Raalte's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4"/>
              </a:rPr>
              <a:t> Math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5"/>
              </a:rPr>
              <a:t>Westwood School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6"/>
              </a:rPr>
              <a:t>Flat Classroom Projec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7"/>
              </a:rPr>
              <a:t>1001 Flat World Tales Projec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Your time…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On the class wiki resource we have set up, you can click on the WIKI link…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Check out a few of the wiki sit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Share, brainstorm, ideas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284400" indent="-28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Comment in your blog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1" marL="616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2557440" cy="38862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 how important is access to high-speed Intern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es it mean to a community to have ac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 do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onal Blog entry (questions on class wi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e Paper due Wedn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 Plan / Tech Integration Assignment due April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ing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d - Richardson (Page 59-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NBAC - Snyder (Page 312-3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828440" y="1066320"/>
            <a:ext cx="7010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k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What is this new world anyway? A brief history of this new web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al applications of wikis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wikis to share information with students and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writing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based projects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textbooks still relevant? Can you see a classroom without texts? What would replace them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Wiki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cb"/>
                </a:solidFill>
                <a:latin typeface="Century Gothic"/>
              </a:rPr>
              <a:t>Web 2.0</a:t>
            </a:r>
            <a:endParaRPr b="0" lang="en-US" sz="6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160" y="38098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Using Blogs, Wikis and Podcasts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s Learning Tool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3123720"/>
            <a:ext cx="4876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Century Gothic"/>
              </a:rPr>
              <a:t>Wikis</a:t>
            </a:r>
            <a:endParaRPr b="0" lang="en-US" sz="129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wiki wiki”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- Hawaiian for “fast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ackrony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W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hat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K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w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”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ikipedi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0734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Website – allows visitors or members to add, remove, edit cont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Ease of use, like using MS Word docu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ree levels of participation (edit, edit with moderation, read-onl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xt, images, videos, link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ome / School communic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ass websites (information, links, etc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acher generated no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inks to resour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ollaborative projec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572040" indent="-21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laborative student note keep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572040" indent="-21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Group project management / host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572040" indent="-21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tudent Centered Activ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572040" indent="-21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tudent writing / edit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ollaborative ability to edit is key featu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4-07T16:48:33Z</dcterms:modified>
  <cp:revision>48</cp:revision>
  <dc:subject/>
  <dc:title>Welcome to  ED3862</dc:title>
</cp:coreProperties>
</file>